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327-6D0A-4E0E-8471-94D55A22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0FF-0743-4494-B0D0-C1C2F41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20C-79F6-4096-BA71-93E838BC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6F1-E938-4269-A37A-97C41255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6BB-46E1-4116-A9FB-65CCA24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891-D77B-4A41-8503-0AD1F14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931-CB59-4035-957F-DDB0B69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42B-E9EE-4B19-A60C-ED24E15A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794-973C-4FAB-94D0-B6952D9F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763-1A0F-46E6-9D9B-3EA8ABD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E07-27B0-4583-A5B6-497A2E4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A09-A0B4-4315-BC00-6BBE961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0E5-9199-4305-8B08-E63B7EC3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8481960"/>
            <a:ext cx="61722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8697960"/>
            <a:ext cx="61722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39:07Z</dcterms:created>
  <dc:creator>amatuszewska</dc:creator>
  <dc:description/>
  <dc:language>en-US</dc:language>
  <cp:lastModifiedBy>amatuszewska</cp:lastModifiedBy>
  <dcterms:modified xsi:type="dcterms:W3CDTF">2007-03-19T12:16:57Z</dcterms:modified>
  <cp:revision>7</cp:revision>
  <dc:subject/>
  <dc:title>Warszawa</dc:title>
</cp:coreProperties>
</file>